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png" ContentType="image/pn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DD30-D88C-47B8-9771-4B2A77050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EBC9-6776-48A2-8F5F-BCA86DFCD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CA77-3782-42C9-A507-8FFF5ED15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9150-3E39-425F-9EA2-533301EBB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8B54-07DF-47A6-9F4E-1DF3E6275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7496-9C72-42D9-8E39-38874C585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B63E-323E-42C5-A81B-ECF552F22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C8EE-B6E3-4D70-854A-6F22A54DB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CF9F-2A66-4028-BA94-C0090A2E7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A7BB-7070-4C31-BAF4-5A4862E0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A4EE-3F6C-4CC6-97A8-20B05A13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137E-9B6F-4EAF-8C21-AB5E48F4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4AF1D-5641-4404-9DE3-484283686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NCH R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Seeds of Discontent to the Reign of T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914400"/>
            <a:ext cx="5715000" cy="459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ff"/>
                </a:solidFill>
                <a:latin typeface="Arial"/>
              </a:rPr>
              <a:t>LIBER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GAL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FRATERN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924520" y="0"/>
            <a:ext cx="321948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uis X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002120" y="3052800"/>
            <a:ext cx="1138320" cy="1619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19280" cy="10857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7524720" y="0"/>
            <a:ext cx="161928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ie Antoine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trian Princess- Habsbu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524720" y="0"/>
            <a:ext cx="1619280" cy="10857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381400" cy="1590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743200" y="2286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bsburg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437920" y="380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Estate- Reb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nis Court O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38080" y="2743200"/>
            <a:ext cx="523872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rming of the Bastil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327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LY 14 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nch Independenc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tille- Pri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isians stormed it, concerned that the King was keeping weaponry (arms) t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438360" y="1219320"/>
            <a:ext cx="5705640" cy="54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e Unicorn Tapestry below have to do with the GREAT FEAR?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eat F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corn Tapestries now at the Cloisters were originally owned by a Noble French family, they were later stolen (during the great fear by peasants who used them for potato sacks!!!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4799160"/>
            <a:ext cx="2209680" cy="2058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114960" y="3946680"/>
            <a:ext cx="3029040" cy="29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04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new Fr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8600" y="2819520"/>
            <a:ext cx="3832200" cy="40384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334120" y="228600"/>
            <a:ext cx="3809880" cy="34322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6477120" y="3733920"/>
            <a:ext cx="2349360" cy="3124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3352680" y="152280"/>
            <a:ext cx="1905120" cy="12733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800600" y="38098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RIC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19810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RY IS DIVIDED INTO DISTRICTS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-530280" y="-15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685800"/>
            <a:ext cx="5029200" cy="916920"/>
          </a:xfrm>
          <a:prstGeom prst="rect">
            <a:avLst/>
          </a:prstGeom>
          <a:noFill/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year - 365 or 366 days, - 12 months of 30 days each, followed by 5 or 6 additional days. The months we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-530280" y="30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029200" y="1676520"/>
            <a:ext cx="4114800" cy="3385800"/>
          </a:xfrm>
          <a:prstGeom prst="rect">
            <a:avLst/>
          </a:prstGeom>
          <a:noFill/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th - thre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écad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10 days, of which the final day was a day of re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-Christianized the calendar, it was unpopular because now there were 9 work days between each day of res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en days were called,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idi (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Duodi(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Tridi(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Quartidi(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Quintidi(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Sextidi, Septidi (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Octidi (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Nonidi (9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Decadi(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52280" y="1143000"/>
          <a:ext cx="4648320" cy="4049640"/>
        </p:xfrm>
        <a:graphic>
          <a:graphicData uri="http://schemas.openxmlformats.org/drawingml/2006/table">
            <a:tbl>
              <a:tblPr/>
              <a:tblGrid>
                <a:gridCol w="457200"/>
                <a:gridCol w="1866960"/>
                <a:gridCol w="835200"/>
                <a:gridCol w="1488960"/>
              </a:tblGrid>
              <a:tr h="5205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c6a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démiaire- (Wind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c6a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c6a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rmi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c6a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um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oré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c6a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m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c6a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c6a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airial (spri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c6a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vôse (autum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ssi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c6a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viôse (Rain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c6a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c6a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rmidor (ho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5c6a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tôse (wint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ucti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0" y="4952880"/>
          <a:ext cx="9132840" cy="914400"/>
        </p:xfrm>
        <a:graphic>
          <a:graphicData uri="http://schemas.openxmlformats.org/drawingml/2006/table">
            <a:tbl>
              <a:tblPr/>
              <a:tblGrid>
                <a:gridCol w="913284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Year  started on autumnal equinox (around 22 September)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-</a:t>
                      </a: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Years are counted since the establishment of the first French Republic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on 22 September 1792. That day became 1 Vendemiaire of the year 1 of the Republic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-347760" y="3122640"/>
            <a:ext cx="1133640" cy="1133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733920" y="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nch Revolution Calen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60958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ff"/>
                </a:solidFill>
                <a:latin typeface="Arial"/>
              </a:rPr>
              <a:t>HOW</a:t>
            </a:r>
            <a:r>
              <a:rPr b="0" lang="en-US" sz="1800" spc="-1" strike="noStrike">
                <a:solidFill>
                  <a:srgbClr val="0099ff"/>
                </a:solidFill>
                <a:latin typeface="Arial"/>
              </a:rPr>
              <a:t> DOES THE CALENDAR REFLECT THE REVOLUTION AND THE AGE OF ENLIGHTEN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086600" y="0"/>
            <a:ext cx="2057400" cy="13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92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ance Prior to the Rev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ancial problems beset France- Expen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merican Rev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 Year War 1756-1763 (also known as the French and Indian W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anish Succession W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strian Succession W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lightenment Ideas stirred F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lons- discussed ideas of Democracy and Lib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oltaire, Locke, Rousseau, Jeff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dustrial Revolution was creating a new class of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urgeoisie – Professional Class- Not Nobles- Bankers, Lawyers, Do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fd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estiges of the Past- Serfdom still existed in F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m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or harv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400800" y="0"/>
            <a:ext cx="2743200" cy="2263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W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2286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Europe had many wars in the 18</a:t>
            </a:r>
            <a:r>
              <a:rPr b="1" lang="en-US" sz="3200" spc="-1" strike="noStrike" baseline="30000">
                <a:solidFill>
                  <a:srgbClr val="ff3300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Century, often over colonial territories as well as who would dominate Europe (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Balance of Power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The Seven Year War (French and Indian War) was particularly costly to France, at its end France lost all its North American Terri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181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ance and the American Rev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25146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merican Revolution- France’s support for the revolutionaries helped the colonists defeat Britain…but..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merican Revolution embodied many of the ideas of the Enlightenment which were being discussed in the Salons of Pa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794200" y="0"/>
            <a:ext cx="334980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rfd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fs- Peasants tied to the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verty stricken, much of what they grew was paid to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fs were required to give a portion of what they grow to the nobles who owned the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lso had to pay to use the mills and ovens and still weren’t allowed to fish or capture game w/out the Noble’s per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vee= Tax in the form of work on behalf of the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yal Taxes- paid to the King’s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hes- 10% of what they grew went to the Chu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19280" cy="10857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524720" y="0"/>
            <a:ext cx="1619280" cy="1085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5867280" y="380880"/>
            <a:ext cx="906480" cy="1143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2286000" y="380880"/>
            <a:ext cx="90648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7861320" y="4267080"/>
            <a:ext cx="1282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753160" y="1143000"/>
            <a:ext cx="3390840" cy="54198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urgeois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Class of Upper Class Professio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n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wy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wners of Compan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obles looked down upon them, however some of the bourgeoisie were wealthier than the Nobles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Political Power- Members of the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19280" cy="10857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7524720" y="0"/>
            <a:ext cx="161928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0020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man Catholic Chu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ful in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8%+ France was Catho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remember Louis XIV revoked the Edict of Nant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ardinals, Bishops were treated as Nobility, they were well-educ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hurch was not taxed- Huge tracts of Land were owned by the Church- Some lands had ser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Local Priests were not treated as well, often poor, not well-educated but well liked by their Parish (chur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19280" cy="1085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181480" y="1295280"/>
            <a:ext cx="1409760" cy="14097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7124760" y="0"/>
            <a:ext cx="2019240" cy="28576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6553080" y="4948200"/>
            <a:ext cx="2590920" cy="19098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0" y="4952880"/>
            <a:ext cx="12351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Bi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19280" cy="10857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524720" y="0"/>
            <a:ext cx="161928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ates Gen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state- Church “nobles” – Cardi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state- No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state- Everyone 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urgeois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as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s-culotte (urban poor) (cool people wore short pants, they had long ones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ting Procedures- Each Estate gets one Vote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bles and Church “nobles” typically ally with one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19280" cy="10857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7524720" y="0"/>
            <a:ext cx="161928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4T12:06:51Z</dcterms:created>
  <dc:creator>Darien Public Schools</dc:creator>
  <dc:description/>
  <dc:language>en-US</dc:language>
  <cp:lastModifiedBy>Darien Public Schools</cp:lastModifiedBy>
  <dcterms:modified xsi:type="dcterms:W3CDTF">2007-03-30T17:25:03Z</dcterms:modified>
  <cp:revision>7</cp:revision>
  <dc:subject/>
  <dc:title>FRENCH REVOLUTION</dc:title>
</cp:coreProperties>
</file>